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40F-A678-41D2-9141-9D22950C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0B1-0FBA-40F0-9715-248D7750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F44-DE57-4774-94AF-E8E4FBA3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C69-BC01-43D2-8454-B89D0E11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435-53B2-4DBC-B380-7B5210C6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552-F0D8-4B7D-9CF6-9CFD97CC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12A-0294-4B49-9EA6-71358FDF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1A3-910C-4B4D-B672-E6B6C9EE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1BE-B446-4FE8-8C8B-FE9FBCB5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FF3-17A7-4347-9D14-394B4FE6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76E-16D3-4C19-AA5E-5871CEC7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96D2-4764-4297-83AC-34DCF6FB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5C1D-779E-4200-8D42-C30FAD218A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c00000"/>
                </a:solidFill>
                <a:latin typeface="Calibri"/>
              </a:rPr>
              <a:t>Ads &amp; sig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805120" y="1052640"/>
            <a:ext cx="36385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2" descr=""/>
          <p:cNvPicPr/>
          <p:nvPr/>
        </p:nvPicPr>
        <p:blipFill>
          <a:blip r:embed="rId1"/>
          <a:stretch/>
        </p:blipFill>
        <p:spPr>
          <a:xfrm>
            <a:off x="2411280" y="130320"/>
            <a:ext cx="4032360" cy="66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68000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2" descr=""/>
          <p:cNvPicPr/>
          <p:nvPr/>
        </p:nvPicPr>
        <p:blipFill>
          <a:blip r:embed="rId1"/>
          <a:stretch/>
        </p:blipFill>
        <p:spPr>
          <a:xfrm>
            <a:off x="2556000" y="90360"/>
            <a:ext cx="453708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2330280" y="115920"/>
            <a:ext cx="497844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09:21:18Z</dcterms:created>
  <dc:creator>lester</dc:creator>
  <dc:description/>
  <dc:language>en-US</dc:language>
  <cp:lastModifiedBy>Ann Louise</cp:lastModifiedBy>
  <dcterms:modified xsi:type="dcterms:W3CDTF">2013-05-05T02:13:05Z</dcterms:modified>
  <cp:revision>18</cp:revision>
  <dc:subject/>
  <dc:title>PowerPoint Presentation</dc:title>
</cp:coreProperties>
</file>